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D30-A1F0-422E-A219-AF4C6CA2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2A0-491F-4F73-B95D-6A35527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236-781E-44C2-87A7-4CE45EA3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08A-D18C-45A3-8B8F-5B03AF95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A9C7-1D54-4DAF-A2A1-E53A95B5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DACF-A509-4B02-AE67-923F4153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882-28CA-4B20-98DF-1A0989F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364-C527-44F1-9D66-19A7F3E8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6562-F3F6-4D60-800F-311153BB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4651-0EEF-411B-A00E-843F789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7097-9C1F-4802-9A58-E3386779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CF6-D314-45FC-8B9D-29B7D9E2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289-D9DE-4DF1-844C-5AAD287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F21-9240-4317-9A1D-3ABAE92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C9AF-49B1-47AE-8805-9799788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22AA-1AB0-4432-AD15-504A657D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0FE0-1DEF-48FE-8EF5-2EFDD7D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8C1-1EA4-47EA-8A97-FB9B41C5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EAE-8FCF-4A8C-AC19-4F7C065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115-1EF3-4CFC-8968-F89D92F3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FF9-C5E0-4923-85CB-0C6A2629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C6C-C1C6-490B-989E-CE2131B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29D-F083-42C6-B051-0714EB0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06A-A96D-4822-8522-6269E9A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FD0-652A-4DD9-A170-E675AA79A8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54A5-E067-4CE1-9B7C-F648ED9AF2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ive Us A K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 –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.13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0-8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fter Three Years, Efforts Made To Reconcile David &amp;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of Te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Help Comes From The Most Unexpected Plac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Was The Reason Absolom Killed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Is The Reason For Reconciliation Between David &amp; Abso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324480" y="4114800"/>
            <a:ext cx="113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ko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76520" y="4419720"/>
            <a:ext cx="449568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ble History In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mnon Violates His Sister, Tama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00200"/>
            <a:ext cx="67820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eems Like “Love” Might Only Be “Lus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. 13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This Situation Have Been Avoi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bsalom, Her Brother, Seeks Vengeance On Amn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r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force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uch thing should be done in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folly (s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be shamed; you shall be a f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 conclu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to the king for he will not withhold me from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bsalom, Her Brother, Seeks Vengeance On Amn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learned of the inc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very upset – but does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and Absalom did not speak for 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had feast for sheep-sh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his servants kill Am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reaches David; very upse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alom fled to Geshur for 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477120" y="1600200"/>
            <a:ext cx="134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eshur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0400" y="2133720"/>
            <a:ext cx="32004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2971440"/>
            <a:ext cx="457200" cy="1600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2819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alom’s Space Between He And His Father, 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onsequences -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in Grows In Con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s Misery Could Have Been Avo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st Moved To Fornication &amp; R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e Moved To Anger &amp;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red Moves To Venge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geance brought about mu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oken Family For Years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David Is Estranged From Son,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non Got What Was C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lom Carried Out “Justice” The Wrong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David Has Lost Two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conciliation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bsolom &amp; David Get Past The Resentments and Bittern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fter Three Years, Efforts Made To Reconcile David &amp; Absalo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concerned about David and Abs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ise woman of Tek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went before David with her “supposed”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granted her requ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reminded David of his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consented for Absalom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speak to each other for 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7:13:59Z</dcterms:created>
  <dc:creator>Terry W. Benton</dc:creator>
  <dc:description/>
  <dc:language>en-US</dc:language>
  <cp:lastModifiedBy>Frank D Vines</cp:lastModifiedBy>
  <dcterms:modified xsi:type="dcterms:W3CDTF">2005-07-07T21:12:32Z</dcterms:modified>
  <cp:revision>7</cp:revision>
  <dc:subject/>
  <dc:title>Give Us A King</dc:title>
</cp:coreProperties>
</file>